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1ED7-614E-4AEE-A330-26FD7372B1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ynchronriemen arbeiten nach dem Prinzip der formschlüssigen Kraftübertragung und benötigen daher keine große Vorspann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ine unnötig hohe Vorspannung vermindert die Lebensdauer des Antriebes, erhöht die Lagerbelastung, den Verschleiß der Zähne und begünstigt Laufgeräus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ine zu geringe Straffung kann dazu führen, daß die Riemenzähne nicht einwandfrei in die Scheibenverzahnung eingreifen und bei hoher       Belastung sogar übersprin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nchronriemen muss gespannt sein, damit er nicht überspringt sobald er sich Ausdehnt durch Wärme u.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ssiert dieses besteht nicht mehr die Möglichkeit einer Synchronitä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ere Riemen würden anfangen zu gleiten bei Überbeanspruc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üflastme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iemenspann- Handmeßgerät TRU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r ist im Vorteil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r ist im Vorteil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kW / 3.000U/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lenabstand ist in vielen Fällen vorgeg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Sinnvolle Grenzwerte sind einzuhal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bei Synchronscheiben sind die Bordscheiben maßge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i zu große Abstände können Schwingungen entste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r Riemenzähnezahlen nach Hersteller Angab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B 16-19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= Spannw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Y= Auflegew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 sich im eingriff befindlichen Zäh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rund unvermeidlicher Teilungsfehler können max. nur 12 Zähne als tragend angesehen werden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her wird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uf ganze Zahlen abru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spez.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Nach TB 16-20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tragende Kraft ist abhängig von Umwelteinflüsse, Ölig, Warm, Kalt us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iemenspannung + Fliehkräfte im Betrieb = weniger Belastung auf den Wellen bzw. Lag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 exakte Berechnung der Wellenbelastung ist für den praktischen Anwendungsfall somit kaum mög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ssen die Errechneten We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trieb im allg. oder über Dimensioniert (Keil oder Synchronriem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teigt die Errechnete Riemenzugkraft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die max.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Ftz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ssen die Werte nicht, so muss wieder von Vorne des Ablaufplans begonn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l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ände müssen berücksichtigt werde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federt / nicht Gefed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nnrolle Feder belastet Ja / N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ra Ansprechen wegen Ihrem Zahnriemenriss beim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 kurvenförmige HTD® (High Torque Drive) Verzahnung verbessert die innere Spannungsverteilung erheblich und ermöglicht eine höhere Übertragungsleistung und eine längere Lebensdauer verglichen mit den klassischen Trapezsynchronrie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D2A-D445-4E86-A46E-6A0BA594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E11-FCFD-445D-8284-00E0D4EF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ECC-016F-4AED-9B9C-BBC53649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5DC-48F9-4BD3-A01E-5EF52981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6CE0-1D6A-4213-913E-380607A6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F08E-3638-4798-95C2-E25DA02B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E043-EA27-4B43-8100-ED44208E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8BFC-63A6-4609-98C2-7461AACE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3F69-5C9E-4F85-8558-801C2C24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7ED4-C75A-489B-AD10-6C54CCCE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844B-E3C5-48D2-8E25-97050AA1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B0C-3C40-4841-84AF-9502D2DA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870F-559A-439D-8F56-561DF278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EA02-F39B-4F53-BC7C-C44F578A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B9E0-3095-4796-ABF9-E7FCA21A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B64B-4178-4DE9-A6EC-814DA7F2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5B3C-52B7-43DC-9DD0-EDFF31AC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B72-F522-4ECF-892F-449A2305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B08-75AB-4ACF-9209-B93B8932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BC5-259B-41BC-8BCF-83A26CE1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759-4C6C-40DD-BEB9-CB9CA89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E06-D131-47EF-85FD-FF584159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A36-25FE-467F-81AD-A99DB27A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E25-9287-483D-96B5-DE7436F7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5379-90E8-4280-B80C-DEEF29A6E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0EC7-ED8D-4C73-A4AF-472F81DFE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tlantadrives.com/" TargetMode="External"/><Relationship Id="rId3" Type="http://schemas.openxmlformats.org/officeDocument/2006/relationships/hyperlink" Target="http://www.bs-wiki.de/mediawiki/index.php/Riementriebe_formschl&#252;ssig" TargetMode="External"/><Relationship Id="rId4" Type="http://schemas.openxmlformats.org/officeDocument/2006/relationships/hyperlink" Target="http://www.bs-wiki.de/mediawiki/index.php/Riementriebe" TargetMode="External"/><Relationship Id="rId5" Type="http://schemas.openxmlformats.org/officeDocument/2006/relationships/hyperlink" Target="http://www.bs-wiki.de/mediawiki/index.php/Zahnriemen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Formschlüssige Riementrieb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58975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twicklung und Konstruk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exander Bold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608200" y="29401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4753080" cy="283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Bauformen von Synchronriementrieben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403848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) einfacher Synchronriementrieb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= 1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) einfacher Synchronriementrie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≠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19640" y="2708280"/>
            <a:ext cx="3381480" cy="23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7F7-89F7-45DA-9F3C-B9E5ED6C15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Aufbau der Synchronriemenscheib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3106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rkstoff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sseisen, Stahlguss, Stahl, Aluminiumlegierungen oder Kunststoff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e Bordscheiben sind in der Regel aus verzinktem Stahl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e Auswahl des Werkstoffes ist abhängig von den Einsatzbedingungen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456000" cy="33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86B-1273-4BD0-A342-B0759C802F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Riemenspannun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1388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in Synchronriemen benötigt keine hohe Vorspannu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Vorspannung kann über die Verstellung des Achsabstandes eingestel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über eine Spannrol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mit dem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andmessgerät TRUMME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2000" y="2637000"/>
            <a:ext cx="2850840" cy="21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3960720" cy="1879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356000" y="3500280"/>
            <a:ext cx="1595520" cy="20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662-2264-4492-A387-5F878FA8C3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Vergleich zu Flach- und Keilriemen (kraftschlüssig)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1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8136000" cy="4299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3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3080" y="321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3080" y="3716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9440" y="4149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9440" y="465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9440" y="5157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9440" y="573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4DF-B7B7-4B48-B1D9-17E2C2358C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Vergleich zu Zahnrad- und Kettentrieben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8064720" cy="4352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3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3080" y="321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3080" y="3716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308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3080" y="4724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9440" y="522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9440" y="573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A25-CB52-4369-99FF-5D8C1ED68E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56000" y="-360"/>
            <a:ext cx="478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27f4c"/>
                </a:solidFill>
                <a:latin typeface="Tahoma"/>
              </a:rPr>
              <a:t>Antriebs Wahl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191120" cy="6381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206028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lauf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 S.5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 S.2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91D-BAC7-49E8-9619-FEE3A9FCFB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Festlegung des Riemenprofils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82752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59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TB 16-1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18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03760" y="1268280"/>
            <a:ext cx="3591000" cy="50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5DA-425C-4C21-8B95-3800264EE3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Festlegen der Scheibenzähnezah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5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42920" y="4076640"/>
                <a:ext cx="25923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491652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4F9-3189-4FE3-AED2-7FCC585C91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Ermittlung des vorläufigen Wellenabstandes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e´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3600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–2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547640" y="5445000"/>
                <a:ext cx="5834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≤</m:t>
                    </m:r>
                    <m:r>
                      <m:t xml:space="preserve">e</m:t>
                    </m:r>
                    <m:r>
                      <m:t xml:space="preserve">´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62888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4FA-6652-4B41-974E-D925D64989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f4c"/>
                </a:solidFill>
                <a:latin typeface="Tahoma"/>
              </a:rPr>
              <a:t>Ermittlung der Riemenzähnezahl,  Riemenlänge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4535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dk; ddg; Ld´; zr´; Ld;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16.3.2 – 2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59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209-2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TB 16-19d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95640" y="2852640"/>
            <a:ext cx="4988160" cy="331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6E7-3101-4383-AFE5-80A0D12190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Inhaltsverzeichni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inleit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ktion und Wirk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staltungsgrundsät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uar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ergleich zu anderen Antrieb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rechn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2F1-456F-40A3-838C-8658B6575B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Festlegen des endgültigen Wellenabstandes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; x; 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210-21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5203800" cy="34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F83-478E-432C-A3E9-94913E17566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Ermittlung der erforderlichen Riemenbreite 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38894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e; Psp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 TB 16-20-b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16.3.2–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601-603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.21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388040" y="49417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= Riemenbr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10508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9B2-C13C-49EF-989D-6F300A195D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827f4c"/>
                </a:solidFill>
                <a:latin typeface="Tahoma"/>
              </a:rPr>
              <a:t>Kontrolle von:  v, fB, Ft, Fw0</a:t>
            </a:r>
            <a:r>
              <a:rPr b="0" lang="de-DE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683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16.3.2-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6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M F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.211-2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5880600" y="3933720"/>
            <a:ext cx="2408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= Riemengeschwindigk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B= Biegefreque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t= Umfangsk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w0= Überschläg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Wellenbelas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289-AD5C-44C7-929E-5AE907DD1E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Werte zulässig?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ahoma"/>
              </a:rPr>
              <a:t>Bsp.: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 Synchronriemen 10-T5-5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ynchronriemen 10-T5-55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b=10 mm Breite, T5 Riemenprofil mit p = 5 mm Teilung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990 mm Richtlänge Ld = Bestellläng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ntriebsschei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btriebsschei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D39-45F6-479A-BF52-A197A9359A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Quelle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oloff/ Matek: Maschinenelemente, Lehrbuch und Tabellenbuch; Vieweg Verlag, 19. Auflage, 2009, ISBN 978-3-8348-0689-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oloff/ Matek: Maschinenelemente, Formelsammlung; Vieweg Verlag, 9. Auflage, 2008, ISBN 978-3-8348-0534-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Tabellenbuch Metall; Europa Lehrmittel Verlag, 44. Auflage, 2008, ISBN 978-3-8085-1724-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2"/>
              </a:rPr>
              <a:t>http://www.atlantadrives.co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3"/>
              </a:rPr>
              <a:t>http://www.bs-wiki.de/mediawiki/index.php/Riementriebe_formschl%C3%BCssi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4"/>
              </a:rPr>
              <a:t>http://www.bs-wiki.de/mediawiki/index.php/Riementrieb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5b8800"/>
                </a:solidFill>
                <a:uFillTx/>
                <a:latin typeface="Tahoma"/>
                <a:hlinkClick r:id="rId5"/>
              </a:rPr>
              <a:t>http://www.bs-wiki.de/mediawiki/index.php/Zahnriem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9BF-FF5E-40FE-A5CA-AE39DB2397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Einleitun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schlüssige Riementriebe, besser bekannt al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ahn- bzw. Synchronriementrieb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egegnet man häufig im Beruf und im Alltag bei Werkzeugmaschinen, Autos, Fahrräder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iehe dazu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Red Ale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w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unterschiedliche Bauarten und Größ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Überbeanspruchung kann zu schwerwiegenden Folgen führ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sp.: Zahnriemenriss beim Verbrennungsmo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1C7-0DA7-4EDE-8AF2-BBBDDE2D2D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Ziele: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s versteht man unter formschlüssigen Riementrieb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orteile / Nachte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wendung / Einsatzgebiet für den Synchronriem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hl des richtigen Synchronriem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Auswah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Berechnu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annungsverteilung im Synchronri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ensionierung des Synchronriem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4B5-1831-4AE3-A902-8512B95761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Besonderheite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e Synchrone Übersetz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hezu wartungsfre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schlüssige Drehmomentübertrag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riementriebe finden Verwendu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Feinwerkantrieben, Haushaltsmaschinen,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rkzeugmaschinen, Textilmaschinen oder schw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umaschin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8B1-8050-4E92-A58C-2328854BD4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Synchronriemenwerkstoffe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gelemente aus Stahl oder Glasfas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Riemenkörper aus Gumm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.B. Neopren oder Elastomer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ähne in Riemenkörper eingebund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ähne zum dauerhaften Schutz von Polyamidgewebe umschloss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410508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874-FCE8-4B0F-ABDA-96358E86DF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Synchronriemenprofile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1989000"/>
            <a:ext cx="6448320" cy="42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8E0-93B6-4BAB-958D-B197DA5DC2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f4c"/>
                </a:solidFill>
                <a:latin typeface="Tahoma"/>
              </a:rPr>
              <a:t>Spannungsverteilung im Synchronriemen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280" y="4292280"/>
            <a:ext cx="453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annungsverteilung im Synchronriem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) Trapezzah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) Halbrundprofil- (HTD) Zah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4968720" cy="20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B66-F9D1-4941-8691-30259942EB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Tahoma"/>
              </a:rPr>
              <a:t>Synchronriemenprofile</a:t>
            </a:r>
            <a:br>
              <a:rPr sz="4400"/>
            </a:br>
            <a:r>
              <a:rPr b="1" lang="en-US" sz="3600" spc="-1" strike="noStrike">
                <a:solidFill>
                  <a:srgbClr val="0a29c4"/>
                </a:solidFill>
                <a:latin typeface="Tahoma"/>
              </a:rPr>
              <a:t>Metrische T-Zahnriemen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467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- Zahnri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ilung T5 / T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mm / 10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sp.: 10-T5-5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änge: 550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ilung: 5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ite: 10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5184720" cy="15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Bol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FB6-6773-465E-9BB5-7C4C030E1A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1.201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9:06:45Z</dcterms:created>
  <dc:creator>Boldt</dc:creator>
  <dc:description/>
  <dc:language>en-US</dc:language>
  <cp:lastModifiedBy>Boldt</cp:lastModifiedBy>
  <dcterms:modified xsi:type="dcterms:W3CDTF">2010-11-26T13:58:41Z</dcterms:modified>
  <cp:revision>182</cp:revision>
  <dc:subject/>
  <dc:title>Formschlüssige Riementriebe</dc:title>
</cp:coreProperties>
</file>